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560" y="3040920"/>
            <a:ext cx="84582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56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860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4400" y="159984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4600" y="159984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560" y="304092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4400" y="304092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4600" y="304092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8458200" cy="27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439560"/>
            <a:ext cx="8458200" cy="24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56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8458200" cy="27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860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040920"/>
            <a:ext cx="84582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560" y="3040920"/>
            <a:ext cx="84582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860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4400" y="159984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4600" y="159984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560" y="304092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4400" y="304092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4600" y="3040920"/>
            <a:ext cx="2723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439560"/>
            <a:ext cx="8458200" cy="24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56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8600" y="304092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599840"/>
            <a:ext cx="41274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3040920"/>
            <a:ext cx="8458200" cy="13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439560"/>
            <a:ext cx="84582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8458200" cy="27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bbbbbb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1" marL="876240" indent="-304560">
              <a:buClr>
                <a:srgbClr val="bbbbbb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2" marL="1276200" indent="-285480">
              <a:buClr>
                <a:srgbClr val="bbbbbb"/>
              </a:buClr>
              <a:buSzPct val="4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3" marL="1676520" indent="-285840">
              <a:buClr>
                <a:srgbClr val="bbbbbb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4" marL="2190600" indent="-304560"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5" marL="2190600" indent="-304560"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  <a:p>
            <a:pPr lvl="6" marL="2190600" indent="-304560"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bbbb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bbbbbb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324480"/>
            <a:ext cx="777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772080"/>
                <a:tab algn="r" pos="754524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0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cccc0f"/>
                </a:solidFill>
                <a:latin typeface="Verdana"/>
              </a:rPr>
              <a:t>FileMaker Developer Conference 2000</a:t>
            </a:r>
            <a:r>
              <a:rPr b="0" lang="en-US" sz="1400" spc="-1" strike="noStrike">
                <a:solidFill>
                  <a:srgbClr val="cccc0f"/>
                </a:solidFill>
                <a:latin typeface="Verdana"/>
              </a:rPr>
              <a:t>	</a:t>
            </a:r>
            <a:fld id="{8BDE0C3C-4EDA-44D5-B15E-E4E29AAB5BF0}" type="slidenum">
              <a:rPr b="0" lang="en-US" sz="900" spc="-1" strike="noStrike">
                <a:solidFill>
                  <a:srgbClr val="cccc0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99844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685800" y="6324480"/>
            <a:ext cx="777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0f"/>
                </a:solidFill>
                <a:latin typeface="Verdana"/>
              </a:rPr>
              <a:t>FileMaker Developer Conference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" name="Conf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648240" cy="163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Click to edit the outline text format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bbbb"/>
                </a:solidFill>
                <a:latin typeface="Verdana"/>
              </a:rPr>
              <a:t>Second Outline Level</a:t>
            </a: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  <a:p>
            <a:pPr lvl="2" marL="990720" algn="ctr">
              <a:buClr>
                <a:srgbClr val="bbbbbb"/>
              </a:buClr>
              <a:buSzPct val="4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bbbbb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bbbbbb"/>
              </a:solidFill>
              <a:latin typeface="Verdana"/>
            </a:endParaRPr>
          </a:p>
          <a:p>
            <a:pPr lvl="3" marL="1390680" algn="ctr">
              <a:buClr>
                <a:srgbClr val="bbbbbb"/>
              </a:buClr>
              <a:buSzPct val="4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bbbbb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bbbbbb"/>
              </a:solidFill>
              <a:latin typeface="Verdana"/>
            </a:endParaRPr>
          </a:p>
          <a:p>
            <a:pPr lvl="4" marL="1886040" algn="ctr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8860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8860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244476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bbbb"/>
                </a:solidFill>
                <a:latin typeface="Verdana"/>
              </a:rPr>
              <a:t>TEC 312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9828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FileMaker Server</a:t>
            </a:r>
            <a:br>
              <a:rPr sz="2600"/>
            </a:b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Increasing Performance with RAM Drives</a:t>
            </a:r>
            <a:endParaRPr b="0" lang="en-US" sz="2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bbbb"/>
                </a:solidFill>
                <a:latin typeface="Verdana"/>
              </a:rPr>
              <a:t>Setting Up A RAM Drive</a:t>
            </a:r>
            <a:endParaRPr b="0" lang="en-US" sz="44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tart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tart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95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tart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2611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tart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50496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tart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79440" y="1576440"/>
            <a:ext cx="6578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tart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5656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FMP Files Served in RAM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79440" y="1576440"/>
            <a:ext cx="6578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FMP Files Served in RAM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958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4760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ccc0f"/>
                </a:solidFill>
                <a:latin typeface="Verdana"/>
              </a:rPr>
              <a:t>Part II: Apple G3/G4</a:t>
            </a:r>
            <a:endParaRPr b="0" lang="en-US" sz="4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Apple G3/G4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AM Disk Software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14800" y="2971800"/>
            <a:ext cx="10922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9884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Part I: Windows NT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0f"/>
                </a:solidFill>
                <a:latin typeface="Verdana"/>
              </a:rPr>
              <a:t>Part II: Apple G3/G4</a:t>
            </a:r>
            <a:endParaRPr b="0" lang="en-US" sz="2600" spc="-1" strike="noStrike">
              <a:solidFill>
                <a:srgbClr val="cccc0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bbbb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Apple G3/G4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AM _x0008__x0008_Disk Software Package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13072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Apple G3/G4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Create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977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Apple G3/G4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AM Disk on Desktop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212840"/>
            <a:ext cx="72388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Apple G3/G4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FileMaker Server &amp; Files to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3152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Apple G3/G4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Open FileMaker Server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7150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Apple G3/G4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 FMP Files Served in RAM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60962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et-Up and Installation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70572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AM Disk Software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94984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AM Disk Software Package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133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et Up OS for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103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un RAM Disk Software to Start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670572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RAM Disk Software Package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133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3920"/>
            <a:ext cx="845820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Window NT RAM Disk:</a:t>
            </a:r>
            <a:br>
              <a:rPr sz="2800"/>
            </a:br>
            <a:r>
              <a:rPr b="0" lang="en-US" sz="2800" spc="-1" strike="noStrike">
                <a:solidFill>
                  <a:srgbClr val="cccc0f"/>
                </a:solidFill>
                <a:latin typeface="Verdana"/>
              </a:rPr>
              <a:t>Start RAM Disk</a:t>
            </a:r>
            <a:endParaRPr b="0" lang="en-US" sz="2800" spc="-1" strike="noStrike">
              <a:solidFill>
                <a:srgbClr val="cccc0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3434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17:05:50Z</dcterms:created>
  <dc:creator>James L. Schek</dc:creator>
  <dc:description/>
  <dc:language>en-US</dc:language>
  <cp:lastModifiedBy>Michael A. Scott</cp:lastModifiedBy>
  <cp:lastPrinted>2000-08-16T13:44:58Z</cp:lastPrinted>
  <dcterms:modified xsi:type="dcterms:W3CDTF">2000-08-27T19:33:15Z</dcterms:modified>
  <cp:revision>23</cp:revision>
  <dc:subject>Session Presentation Guidelines</dc:subject>
  <dc:title>FileMaker Server Increasing Performance with RAM Driv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0485760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F:\CONFEREN\API\TEMPLATE\CEB0005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485760</vt:r8>
  </property>
</Properties>
</file>